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A7EA-C880-4245-AB28-4361375B7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BE94-3580-4638-96BD-DE46E48F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72C1-7D4D-4ABF-BDB4-0DD518A3A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11D6-C159-497D-9139-71DF0D3E5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9894-EC85-4323-B1D2-A4B50B84D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FA63-5A5B-48E7-9703-A186AF60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95A8-FA61-495B-91B4-8BA73CC8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B4D1-34C0-4BF4-86B8-E3D12E27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0162-9FD3-4C44-85A0-C16E1902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E193-BBFF-4A92-9014-02AD9E9A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C764-E5A3-453C-B31F-09478385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8E5C-30FF-4974-8764-382B052A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A5E0-10EB-422F-91BF-AA00E4DD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4743D-3076-4057-B89F-8CADD807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4E7E-A5AA-4232-B26D-8BDE89B7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6537-DB1F-4CB5-A097-7C61D5537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B4F5A-BB04-470A-B32D-2AF88C4EF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D88C-AF5E-4AEC-AF6D-1291C48F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16F4-FA1D-4446-A391-B56DC271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28FE-D3A0-4D81-BBD7-4966CF9A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66A4-4626-4E79-817A-8A20FBE1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51C7-6BC7-4AB5-BF0F-6CB4E1F5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23B4-F5E8-47CC-88C5-EF0D831F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57A4-AF01-40D6-961C-3ADDE917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B934-0AFC-4B29-8138-30653A6443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E712-6423-40F0-98F8-E0BB1B243B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87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Times New Roman"/>
              </a:rPr>
              <a:t>TR X 0034</a:t>
            </a: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:2000</a:t>
            </a:r>
            <a:br>
              <a:rPr sz="2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子出版技術関連用語（仮称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981080" y="4114800"/>
            <a:ext cx="51055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電子出版技術調査委員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WG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imes New Roman"/>
              </a:rPr>
              <a:t>長村　玄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Times New Roman"/>
              </a:rPr>
              <a:t>（株式会社ドキュメント・エンジニアリング研究所）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4F2C-36F9-4A50-8B7E-EE4280C881F3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0.8.29       XML, Java関連TR動向説明会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本</a:t>
            </a:r>
            <a:r>
              <a:rPr b="0" lang="ja-JP" sz="4400" spc="-1" strike="noStrike">
                <a:solidFill>
                  <a:srgbClr val="cbcbcb"/>
                </a:solidFill>
                <a:latin typeface="Arial"/>
              </a:rPr>
              <a:t>TR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経緯（１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この元も「新フォント関連用語」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TR X 0003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を制定した際，フォントの応用面で使用される用語については対象から除外した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フォントの応用面とは，具体的には広義の出版領域である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そこで電子的な文書生成に関する用語を広くまとめることとした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E495-9968-4DE7-BE13-B61EA0E0E2E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.8.29       XML, Java関連TR動向説明会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本</a:t>
            </a:r>
            <a:r>
              <a:rPr b="0" lang="ja-JP" sz="4400" spc="-1" strike="noStrike">
                <a:solidFill>
                  <a:srgbClr val="cbcbcb"/>
                </a:solidFill>
                <a:latin typeface="Arial"/>
              </a:rPr>
              <a:t>TR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経緯（２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「新フォント関連用語集」は，その後，入手が難しくなり，さらに必要とする用語も増大したため，再編集が求められた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そこで電子出版技術調査研究委員会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G4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では，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TR X 0003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利用者の要求を踏まえ，詳細な見直しを行って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TR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原案としてまとめ，工業技術院に提出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146E-3B69-4E6C-92EA-98CAFE29DB7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.8.29       XML, Java関連TR動向説明会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出版用語としての位置付け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他の関連分野との関係を含めた位置付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990720" y="2514600"/>
            <a:ext cx="7619760" cy="3200400"/>
            <a:chOff x="990720" y="2514600"/>
            <a:chExt cx="7619760" cy="3200400"/>
          </a:xfrm>
        </p:grpSpPr>
        <p:sp>
          <p:nvSpPr>
            <p:cNvPr id="132" name=""/>
            <p:cNvSpPr/>
            <p:nvPr/>
          </p:nvSpPr>
          <p:spPr>
            <a:xfrm>
              <a:off x="990720" y="2743200"/>
              <a:ext cx="7238880" cy="29718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5400000">
              <a:off x="1676160" y="3200400"/>
              <a:ext cx="2133720" cy="2590560"/>
            </a:xfrm>
            <a:custGeom>
              <a:avLst/>
              <a:gdLst>
                <a:gd name="textAreaLeft" fmla="*/ 104040 w 2133720"/>
                <a:gd name="textAreaRight" fmla="*/ 2029680 w 2133720"/>
                <a:gd name="textAreaTop" fmla="*/ 104040 h 2590560"/>
                <a:gd name="textAreaBottom" fmla="*/ 2486520 h 2590560"/>
              </a:gdLst>
              <a:ahLst/>
              <a:rect l="textAreaLeft" t="textAreaTop" r="textAreaRight" b="textAreaBottom"/>
              <a:pathLst>
                <a:path w="21600" h="26224">
                  <a:moveTo>
                    <a:pt x="3600" y="0"/>
                  </a:moveTo>
                  <a:arcTo wR="3600" hR="3600" stAng="16200000" swAng="-5400000"/>
                  <a:lnTo>
                    <a:pt x="0" y="22624"/>
                  </a:lnTo>
                  <a:arcTo wR="3600" hR="3600" stAng="10800000" swAng="-5400000"/>
                  <a:lnTo>
                    <a:pt x="18000" y="262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67280" y="2819520"/>
              <a:ext cx="2210040" cy="2743200"/>
            </a:xfrm>
            <a:custGeom>
              <a:avLst/>
              <a:gdLst>
                <a:gd name="textAreaLeft" fmla="*/ 107640 w 2210040"/>
                <a:gd name="textAreaRight" fmla="*/ 2102400 w 2210040"/>
                <a:gd name="textAreaTop" fmla="*/ 107640 h 2743200"/>
                <a:gd name="textAreaBottom" fmla="*/ 2635560 h 2743200"/>
              </a:gdLst>
              <a:ahLst/>
              <a:rect l="textAreaLeft" t="textAreaTop" r="textAreaRight" b="textAreaBottom"/>
              <a:pathLst>
                <a:path w="21600" h="26810">
                  <a:moveTo>
                    <a:pt x="3600" y="0"/>
                  </a:moveTo>
                  <a:arcTo wR="3600" hR="3600" stAng="16200000" swAng="-5400000"/>
                  <a:lnTo>
                    <a:pt x="0" y="23210"/>
                  </a:lnTo>
                  <a:arcTo wR="3600" hR="3600" stAng="10800000" swAng="-5400000"/>
                  <a:lnTo>
                    <a:pt x="18000" y="268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86000" y="3048120"/>
              <a:ext cx="4495680" cy="2209680"/>
            </a:xfrm>
            <a:prstGeom prst="roundRect">
              <a:avLst>
                <a:gd name="adj" fmla="val 16667"/>
              </a:avLst>
            </a:prstGeom>
            <a:solidFill>
              <a:srgbClr val="00ffff">
                <a:alpha val="50000"/>
              </a:srgbClr>
            </a:solidFill>
            <a:ln cap="sq" w="381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3429000" y="2514600"/>
              <a:ext cx="2438280" cy="609480"/>
              <a:chOff x="3429000" y="2514600"/>
              <a:chExt cx="2438280" cy="609480"/>
            </a:xfrm>
          </p:grpSpPr>
          <p:sp>
            <p:nvSpPr>
              <p:cNvPr id="137" name=""/>
              <p:cNvSpPr/>
              <p:nvPr/>
            </p:nvSpPr>
            <p:spPr>
              <a:xfrm>
                <a:off x="3429000" y="2514600"/>
                <a:ext cx="2057400" cy="609480"/>
              </a:xfrm>
              <a:prstGeom prst="rect">
                <a:avLst/>
              </a:prstGeom>
              <a:solidFill>
                <a:srgbClr val="cbcbcb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429000" y="2579400"/>
                <a:ext cx="243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400" spc="-1" strike="noStrike">
                    <a:solidFill>
                      <a:srgbClr val="330099"/>
                    </a:solidFill>
                    <a:latin typeface="Times New Roman"/>
                  </a:rPr>
                  <a:t>電子出版用語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1046160" y="4114800"/>
              <a:ext cx="2438280" cy="609480"/>
              <a:chOff x="1046160" y="4114800"/>
              <a:chExt cx="2438280" cy="609480"/>
            </a:xfrm>
          </p:grpSpPr>
          <p:sp>
            <p:nvSpPr>
              <p:cNvPr id="140" name=""/>
              <p:cNvSpPr/>
              <p:nvPr/>
            </p:nvSpPr>
            <p:spPr>
              <a:xfrm>
                <a:off x="1046160" y="4114800"/>
                <a:ext cx="2057400" cy="609480"/>
              </a:xfrm>
              <a:prstGeom prst="rect">
                <a:avLst/>
              </a:prstGeom>
              <a:solidFill>
                <a:srgbClr val="cbcbcb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046160" y="4179600"/>
                <a:ext cx="243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400" spc="-1" strike="noStrike">
                    <a:solidFill>
                      <a:srgbClr val="330099"/>
                    </a:solidFill>
                    <a:latin typeface="Times New Roman"/>
                  </a:rPr>
                  <a:t>一般印刷用語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3438360" y="3516480"/>
              <a:ext cx="2743200" cy="762120"/>
            </a:xfrm>
            <a:prstGeom prst="rect">
              <a:avLst/>
            </a:prstGeom>
            <a:solidFill>
              <a:srgbClr val="3300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40160" y="3516480"/>
              <a:ext cx="2982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200" spc="-1" strike="noStrike">
                  <a:solidFill>
                    <a:srgbClr val="ffffff"/>
                  </a:solidFill>
                  <a:latin typeface="Arial"/>
                </a:rPr>
                <a:t>TR X 0034 </a:t>
              </a:r>
              <a:r>
                <a:rPr b="0" lang="ja-JP" sz="2200" spc="-1" strike="noStrike">
                  <a:solidFill>
                    <a:srgbClr val="ffffff"/>
                  </a:solidFill>
                  <a:latin typeface="Arial"/>
                </a:rPr>
                <a:t>電子出</a:t>
              </a:r>
              <a:r>
                <a:rPr b="0" lang="ja-JP" sz="2200" spc="-1" strike="noStrike">
                  <a:solidFill>
                    <a:srgbClr val="ffffff"/>
                  </a:solidFill>
                  <a:latin typeface="Times New Roman"/>
                </a:rPr>
                <a:t>版技術関連用語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3809880" y="4275360"/>
              <a:ext cx="2862360" cy="764280"/>
              <a:chOff x="3809880" y="4275360"/>
              <a:chExt cx="2862360" cy="764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809880" y="4275360"/>
                <a:ext cx="2743200" cy="761760"/>
              </a:xfrm>
              <a:prstGeom prst="rect">
                <a:avLst/>
              </a:prstGeom>
              <a:solidFill>
                <a:srgbClr val="4b00e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917880" y="4275360"/>
                <a:ext cx="27543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200" spc="-1" strike="noStrike">
                    <a:solidFill>
                      <a:srgbClr val="ffffff"/>
                    </a:solidFill>
                    <a:latin typeface="Arial"/>
                  </a:rPr>
                  <a:t>TR X 003</a:t>
                </a:r>
                <a:r>
                  <a:rPr b="0" lang="ja-JP" sz="22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ja-JP" sz="2200" spc="-1" strike="noStrike">
                    <a:solidFill>
                      <a:srgbClr val="ffffff"/>
                    </a:solidFill>
                    <a:latin typeface="Times New Roman"/>
                  </a:rPr>
                  <a:t>フォント情報処理用語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456240" y="3353040"/>
              <a:ext cx="2154240" cy="609480"/>
              <a:chOff x="6456240" y="3353040"/>
              <a:chExt cx="2154240" cy="609480"/>
            </a:xfrm>
          </p:grpSpPr>
          <p:sp>
            <p:nvSpPr>
              <p:cNvPr id="148" name=""/>
              <p:cNvSpPr/>
              <p:nvPr/>
            </p:nvSpPr>
            <p:spPr>
              <a:xfrm>
                <a:off x="6456240" y="3353040"/>
                <a:ext cx="2057400" cy="609480"/>
              </a:xfrm>
              <a:prstGeom prst="rect">
                <a:avLst/>
              </a:prstGeom>
              <a:solidFill>
                <a:srgbClr val="cbcbcb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477120" y="3429000"/>
                <a:ext cx="2133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400" spc="-1" strike="noStrike">
                    <a:solidFill>
                      <a:srgbClr val="330099"/>
                    </a:solidFill>
                    <a:latin typeface="Arial"/>
                  </a:rPr>
                  <a:t>Web</a:t>
                </a:r>
                <a:r>
                  <a:rPr b="0" lang="ja-JP" sz="2400" spc="-1" strike="noStrike">
                    <a:solidFill>
                      <a:srgbClr val="330099"/>
                    </a:solidFill>
                    <a:latin typeface="Times New Roman"/>
                  </a:rPr>
                  <a:t>関連用語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5C63-503C-4462-894A-B4775953B0B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.8.29       XML, Java関連TR動向説明会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60320" y="685800"/>
            <a:ext cx="8382240" cy="99072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cbcbcb"/>
                </a:solidFill>
                <a:latin typeface="Times New Roman"/>
              </a:rPr>
              <a:t>フォント情報処理モデルと</a:t>
            </a:r>
            <a:br>
              <a:rPr sz="3600"/>
            </a:br>
            <a:r>
              <a:rPr b="0" lang="ja-JP" sz="3600" spc="-1" strike="noStrike">
                <a:solidFill>
                  <a:srgbClr val="cbcbcb"/>
                </a:solidFill>
                <a:latin typeface="Arial"/>
              </a:rPr>
              <a:t>本</a:t>
            </a:r>
            <a:r>
              <a:rPr b="0" lang="ja-JP" sz="3600" spc="-1" strike="noStrike">
                <a:solidFill>
                  <a:srgbClr val="cbcbcb"/>
                </a:solidFill>
                <a:latin typeface="Arial"/>
              </a:rPr>
              <a:t>TR</a:t>
            </a:r>
            <a:r>
              <a:rPr b="0" lang="ja-JP" sz="3600" spc="-1" strike="noStrike">
                <a:solidFill>
                  <a:srgbClr val="cbcbcb"/>
                </a:solidFill>
                <a:latin typeface="Arial"/>
              </a:rPr>
              <a:t>の対象範囲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対象分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09480" y="1959120"/>
            <a:ext cx="7891560" cy="3910680"/>
            <a:chOff x="609480" y="1959120"/>
            <a:chExt cx="7891560" cy="3910680"/>
          </a:xfrm>
        </p:grpSpPr>
        <p:grpSp>
          <p:nvGrpSpPr>
            <p:cNvPr id="154" name=""/>
            <p:cNvGrpSpPr/>
            <p:nvPr/>
          </p:nvGrpSpPr>
          <p:grpSpPr>
            <a:xfrm>
              <a:off x="1143000" y="2514600"/>
              <a:ext cx="2057400" cy="762120"/>
              <a:chOff x="1143000" y="2514600"/>
              <a:chExt cx="2057400" cy="762120"/>
            </a:xfrm>
          </p:grpSpPr>
          <p:sp>
            <p:nvSpPr>
              <p:cNvPr id="155" name=""/>
              <p:cNvSpPr/>
              <p:nvPr/>
            </p:nvSpPr>
            <p:spPr>
              <a:xfrm>
                <a:off x="1143000" y="2514600"/>
                <a:ext cx="1828800" cy="762120"/>
              </a:xfrm>
              <a:prstGeom prst="rect">
                <a:avLst/>
              </a:prstGeom>
              <a:solidFill>
                <a:srgbClr val="330099"/>
              </a:solidFill>
              <a:ln w="0">
                <a:noFill/>
              </a:ln>
              <a:effectLst>
                <a:outerShdw dist="71785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143000" y="2514600"/>
                <a:ext cx="2057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200" spc="-1" strike="noStrike">
                    <a:solidFill>
                      <a:srgbClr val="ffffff"/>
                    </a:solidFill>
                    <a:latin typeface="Times New Roman"/>
                  </a:rPr>
                  <a:t>文書内容文字列処理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3429000" y="2514600"/>
              <a:ext cx="1905120" cy="762120"/>
              <a:chOff x="3429000" y="2514600"/>
              <a:chExt cx="1905120" cy="762120"/>
            </a:xfrm>
          </p:grpSpPr>
          <p:sp>
            <p:nvSpPr>
              <p:cNvPr id="158" name=""/>
              <p:cNvSpPr/>
              <p:nvPr/>
            </p:nvSpPr>
            <p:spPr>
              <a:xfrm>
                <a:off x="3429000" y="2514600"/>
                <a:ext cx="1828800" cy="76212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  <a:effectLst>
                <a:outerShdw dist="71785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505320" y="2514600"/>
                <a:ext cx="18288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200" spc="-1" strike="noStrike">
                    <a:solidFill>
                      <a:srgbClr val="ffffff"/>
                    </a:solidFill>
                    <a:latin typeface="Times New Roman"/>
                  </a:rPr>
                  <a:t>文書スタイル指定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7738920" y="3538440"/>
              <a:ext cx="762120" cy="764280"/>
              <a:chOff x="7738920" y="3538440"/>
              <a:chExt cx="762120" cy="764280"/>
            </a:xfrm>
          </p:grpSpPr>
          <p:sp>
            <p:nvSpPr>
              <p:cNvPr id="161" name=""/>
              <p:cNvSpPr/>
              <p:nvPr/>
            </p:nvSpPr>
            <p:spPr>
              <a:xfrm>
                <a:off x="7781760" y="3581280"/>
                <a:ext cx="609840" cy="38124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  <a:effectLst>
                <a:outerShdw dist="71785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738920" y="3538440"/>
                <a:ext cx="7621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200" spc="-1" strike="noStrike">
                    <a:solidFill>
                      <a:srgbClr val="ffffff"/>
                    </a:solidFill>
                    <a:latin typeface="Times New Roman"/>
                  </a:rPr>
                  <a:t>製本　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7031160" y="1959120"/>
              <a:ext cx="761760" cy="434880"/>
              <a:chOff x="7031160" y="1959120"/>
              <a:chExt cx="761760" cy="434880"/>
            </a:xfrm>
          </p:grpSpPr>
          <p:sp>
            <p:nvSpPr>
              <p:cNvPr id="164" name=""/>
              <p:cNvSpPr/>
              <p:nvPr/>
            </p:nvSpPr>
            <p:spPr>
              <a:xfrm>
                <a:off x="7107120" y="2013120"/>
                <a:ext cx="609840" cy="3808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  <a:effectLst>
                <a:outerShdw dist="71785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031160" y="1959120"/>
                <a:ext cx="761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200" spc="-1" strike="noStrike">
                    <a:solidFill>
                      <a:srgbClr val="ffffff"/>
                    </a:solidFill>
                    <a:latin typeface="Times New Roman"/>
                  </a:rPr>
                  <a:t>校正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2057400" y="2209680"/>
              <a:ext cx="5029200" cy="0"/>
            </a:xfrm>
            <a:prstGeom prst="line">
              <a:avLst/>
            </a:prstGeom>
            <a:ln cap="sq"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057400" y="2209680"/>
              <a:ext cx="0" cy="304920"/>
            </a:xfrm>
            <a:prstGeom prst="line">
              <a:avLst/>
            </a:prstGeom>
            <a:ln cap="sq" w="28440">
              <a:solidFill>
                <a:srgbClr val="ff99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43400" y="2209680"/>
              <a:ext cx="0" cy="304920"/>
            </a:xfrm>
            <a:prstGeom prst="line">
              <a:avLst/>
            </a:prstGeom>
            <a:ln cap="sq" w="28440">
              <a:solidFill>
                <a:srgbClr val="ff99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33920" y="3276720"/>
              <a:ext cx="0" cy="304560"/>
            </a:xfrm>
            <a:prstGeom prst="line">
              <a:avLst/>
            </a:prstGeom>
            <a:ln cap="sq" w="28440">
              <a:solidFill>
                <a:srgbClr val="ff99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23880" y="3265560"/>
              <a:ext cx="0" cy="533160"/>
            </a:xfrm>
            <a:prstGeom prst="line">
              <a:avLst/>
            </a:prstGeom>
            <a:ln cap="sq"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1523880" y="3533760"/>
              <a:ext cx="5867640" cy="429120"/>
              <a:chOff x="1523880" y="3533760"/>
              <a:chExt cx="5867640" cy="429120"/>
            </a:xfrm>
          </p:grpSpPr>
          <p:sp>
            <p:nvSpPr>
              <p:cNvPr id="172" name=""/>
              <p:cNvSpPr/>
              <p:nvPr/>
            </p:nvSpPr>
            <p:spPr>
              <a:xfrm>
                <a:off x="5681520" y="3579840"/>
                <a:ext cx="1524240" cy="380880"/>
              </a:xfrm>
              <a:prstGeom prst="rect">
                <a:avLst/>
              </a:prstGeom>
              <a:solidFill>
                <a:srgbClr val="330099"/>
              </a:solidFill>
              <a:ln w="0">
                <a:noFill/>
              </a:ln>
              <a:effectLst>
                <a:outerShdw dist="71785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157640" y="3579840"/>
                <a:ext cx="1371600" cy="380880"/>
              </a:xfrm>
              <a:prstGeom prst="rect">
                <a:avLst/>
              </a:prstGeom>
              <a:solidFill>
                <a:srgbClr val="330099"/>
              </a:solidFill>
              <a:ln w="0">
                <a:noFill/>
              </a:ln>
              <a:effectLst>
                <a:outerShdw dist="71785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046240" y="3579840"/>
                <a:ext cx="1970280" cy="3808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  <a:effectLst>
                <a:outerShdw dist="71785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981080" y="3533760"/>
                <a:ext cx="54104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200" spc="-1" strike="noStrike">
                    <a:solidFill>
                      <a:srgbClr val="ffffff"/>
                    </a:solidFill>
                    <a:latin typeface="Times New Roman"/>
                  </a:rPr>
                  <a:t>フォーマット処理　ページ記述　レンダリング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523880" y="3787920"/>
                <a:ext cx="533520" cy="0"/>
              </a:xfrm>
              <a:prstGeom prst="line">
                <a:avLst/>
              </a:prstGeom>
              <a:ln cap="sq" w="2844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038480" y="3776760"/>
                <a:ext cx="152640" cy="0"/>
              </a:xfrm>
              <a:prstGeom prst="line">
                <a:avLst/>
              </a:prstGeom>
              <a:ln cap="sq" w="2844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562720" y="3776760"/>
                <a:ext cx="152280" cy="0"/>
              </a:xfrm>
              <a:prstGeom prst="line">
                <a:avLst/>
              </a:prstGeom>
              <a:ln cap="sq" w="2844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8077320" y="2209680"/>
              <a:ext cx="0" cy="609840"/>
            </a:xfrm>
            <a:prstGeom prst="line">
              <a:avLst/>
            </a:prstGeom>
            <a:ln cap="sq"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96080" y="2209680"/>
              <a:ext cx="381240" cy="0"/>
            </a:xfrm>
            <a:prstGeom prst="line">
              <a:avLst/>
            </a:prstGeom>
            <a:ln cap="sq"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5932440" y="2776680"/>
              <a:ext cx="2525760" cy="429120"/>
              <a:chOff x="5932440" y="2776680"/>
              <a:chExt cx="2525760" cy="429120"/>
            </a:xfrm>
          </p:grpSpPr>
          <p:sp>
            <p:nvSpPr>
              <p:cNvPr id="182" name=""/>
              <p:cNvSpPr/>
              <p:nvPr/>
            </p:nvSpPr>
            <p:spPr>
              <a:xfrm>
                <a:off x="7772400" y="2819520"/>
                <a:ext cx="609480" cy="380880"/>
              </a:xfrm>
              <a:prstGeom prst="rect">
                <a:avLst/>
              </a:prstGeom>
              <a:solidFill>
                <a:srgbClr val="330099"/>
              </a:solidFill>
              <a:ln w="0">
                <a:noFill/>
              </a:ln>
              <a:effectLst>
                <a:outerShdw dist="71785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010280" y="2819520"/>
                <a:ext cx="609840" cy="3808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  <a:effectLst>
                <a:outerShdw dist="71785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019920" y="2819520"/>
                <a:ext cx="838080" cy="3808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  <a:effectLst>
                <a:outerShdw dist="71785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880320" y="3003480"/>
                <a:ext cx="152280" cy="0"/>
              </a:xfrm>
              <a:prstGeom prst="line">
                <a:avLst/>
              </a:prstGeom>
              <a:ln cap="sq" w="2844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620120" y="3003480"/>
                <a:ext cx="152280" cy="0"/>
              </a:xfrm>
              <a:prstGeom prst="line">
                <a:avLst/>
              </a:prstGeom>
              <a:ln cap="sq" w="2844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932440" y="2776680"/>
                <a:ext cx="2525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200" spc="-1" strike="noStrike">
                    <a:solidFill>
                      <a:srgbClr val="ffffff"/>
                    </a:solidFill>
                    <a:latin typeface="Times New Roman"/>
                  </a:rPr>
                  <a:t>面付け　製版　印刷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 flipV="1">
              <a:off x="6400800" y="3200400"/>
              <a:ext cx="0" cy="380880"/>
            </a:xfrm>
            <a:prstGeom prst="line">
              <a:avLst/>
            </a:prstGeom>
            <a:ln cap="sq"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8077320" y="3200400"/>
              <a:ext cx="0" cy="380880"/>
            </a:xfrm>
            <a:prstGeom prst="line">
              <a:avLst/>
            </a:prstGeom>
            <a:ln cap="sq" w="2844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609480" y="3917880"/>
              <a:ext cx="7543800" cy="1951920"/>
              <a:chOff x="609480" y="3917880"/>
              <a:chExt cx="7543800" cy="1951920"/>
            </a:xfrm>
          </p:grpSpPr>
          <p:sp>
            <p:nvSpPr>
              <p:cNvPr id="191" name=""/>
              <p:cNvSpPr/>
              <p:nvPr/>
            </p:nvSpPr>
            <p:spPr>
              <a:xfrm>
                <a:off x="1523880" y="4191120"/>
                <a:ext cx="0" cy="152280"/>
              </a:xfrm>
              <a:prstGeom prst="line">
                <a:avLst/>
              </a:prstGeom>
              <a:ln cap="sq" w="2844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523880" y="4191120"/>
                <a:ext cx="1143000" cy="0"/>
              </a:xfrm>
              <a:prstGeom prst="line">
                <a:avLst/>
              </a:prstGeom>
              <a:ln cap="sq" w="2844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2666880" y="3962160"/>
                <a:ext cx="0" cy="228600"/>
              </a:xfrm>
              <a:prstGeom prst="line">
                <a:avLst/>
              </a:prstGeom>
              <a:ln cap="sq" w="2844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3048120" y="3951360"/>
                <a:ext cx="0" cy="457200"/>
              </a:xfrm>
              <a:prstGeom prst="line">
                <a:avLst/>
              </a:prstGeom>
              <a:ln cap="sq" w="2844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4724280" y="3917880"/>
                <a:ext cx="0" cy="457200"/>
              </a:xfrm>
              <a:prstGeom prst="line">
                <a:avLst/>
              </a:prstGeom>
              <a:ln cap="sq" w="2844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3048120" y="3962520"/>
                <a:ext cx="0" cy="457200"/>
              </a:xfrm>
              <a:prstGeom prst="line">
                <a:avLst/>
              </a:prstGeom>
              <a:ln cap="sq" w="2844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6400800" y="3929040"/>
                <a:ext cx="0" cy="457200"/>
              </a:xfrm>
              <a:prstGeom prst="line">
                <a:avLst/>
              </a:prstGeom>
              <a:ln cap="sq" w="2844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838080" y="4255920"/>
                <a:ext cx="7162920" cy="685800"/>
                <a:chOff x="838080" y="4255920"/>
                <a:chExt cx="7162920" cy="68580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716440" y="4389480"/>
                  <a:ext cx="2055960" cy="380880"/>
                </a:xfrm>
                <a:prstGeom prst="rect">
                  <a:avLst/>
                </a:prstGeom>
                <a:solidFill>
                  <a:srgbClr val="330099"/>
                </a:solidFill>
                <a:ln w="0">
                  <a:noFill/>
                </a:ln>
                <a:effectLst>
                  <a:outerShdw dist="71785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887640" y="4389480"/>
                  <a:ext cx="1675080" cy="380880"/>
                </a:xfrm>
                <a:prstGeom prst="rect">
                  <a:avLst/>
                </a:prstGeom>
                <a:solidFill>
                  <a:srgbClr val="330099"/>
                </a:solidFill>
                <a:ln w="0">
                  <a:noFill/>
                </a:ln>
                <a:effectLst>
                  <a:outerShdw dist="71785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2287440" y="4389480"/>
                  <a:ext cx="1446480" cy="380880"/>
                </a:xfrm>
                <a:prstGeom prst="rect">
                  <a:avLst/>
                </a:prstGeom>
                <a:solidFill>
                  <a:srgbClr val="330099"/>
                </a:solidFill>
                <a:ln w="0">
                  <a:noFill/>
                </a:ln>
                <a:effectLst>
                  <a:outerShdw dist="71785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981000" y="4378320"/>
                  <a:ext cx="1152720" cy="380880"/>
                </a:xfrm>
                <a:prstGeom prst="rect">
                  <a:avLst/>
                </a:prstGeom>
                <a:solidFill>
                  <a:srgbClr val="330099"/>
                </a:solidFill>
                <a:ln w="0">
                  <a:noFill/>
                </a:ln>
                <a:effectLst>
                  <a:outerShdw dist="71785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914400" y="4343400"/>
                  <a:ext cx="701028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2200" spc="-1" strike="noStrike">
                      <a:solidFill>
                        <a:srgbClr val="ffffff"/>
                      </a:solidFill>
                      <a:latin typeface="Times New Roman"/>
                    </a:rPr>
                    <a:t>管理情報　メトリク情報　形状表現情報　レンダリング情報</a:t>
                  </a:r>
                  <a:endParaRPr b="0" lang="en-US" sz="2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838080" y="4255920"/>
                  <a:ext cx="7162920" cy="685800"/>
                </a:xfrm>
                <a:prstGeom prst="roundRect">
                  <a:avLst>
                    <a:gd name="adj" fmla="val 16667"/>
                  </a:avLst>
                </a:prstGeom>
                <a:noFill/>
                <a:ln w="2844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 flipV="1">
                <a:off x="4267080" y="4952880"/>
                <a:ext cx="0" cy="349200"/>
              </a:xfrm>
              <a:prstGeom prst="line">
                <a:avLst/>
              </a:prstGeom>
              <a:ln cap="sq" w="2844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1066680" y="5257800"/>
                <a:ext cx="4038840" cy="429120"/>
                <a:chOff x="1066680" y="5257800"/>
                <a:chExt cx="4038840" cy="42912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3233880" y="5300640"/>
                  <a:ext cx="1719000" cy="380880"/>
                </a:xfrm>
                <a:prstGeom prst="rect">
                  <a:avLst/>
                </a:prstGeom>
                <a:solidFill>
                  <a:srgbClr val="330099"/>
                </a:solidFill>
                <a:ln w="0">
                  <a:noFill/>
                </a:ln>
                <a:effectLst>
                  <a:outerShdw dist="71785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154160" y="5291280"/>
                  <a:ext cx="1905120" cy="380880"/>
                </a:xfrm>
                <a:prstGeom prst="rect">
                  <a:avLst/>
                </a:prstGeom>
                <a:solidFill>
                  <a:srgbClr val="330099"/>
                </a:solidFill>
                <a:ln w="0">
                  <a:noFill/>
                </a:ln>
                <a:effectLst>
                  <a:outerShdw dist="71785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066680" y="5257800"/>
                  <a:ext cx="40388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2200" spc="-1" strike="noStrike">
                      <a:solidFill>
                        <a:srgbClr val="ffffff"/>
                      </a:solidFill>
                      <a:latin typeface="Times New Roman"/>
                    </a:rPr>
                    <a:t>フォントデザイン　フォント生成系</a:t>
                  </a:r>
                  <a:endParaRPr b="0" lang="en-US" sz="2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081240" y="5486400"/>
                  <a:ext cx="152640" cy="0"/>
                </a:xfrm>
                <a:prstGeom prst="line">
                  <a:avLst/>
                </a:prstGeom>
                <a:ln cap="sq" w="28440">
                  <a:solidFill>
                    <a:srgbClr val="ff99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1" name=""/>
              <p:cNvSpPr/>
              <p:nvPr/>
            </p:nvSpPr>
            <p:spPr>
              <a:xfrm>
                <a:off x="609480" y="4114800"/>
                <a:ext cx="7543800" cy="1752480"/>
              </a:xfrm>
              <a:prstGeom prst="roundRect">
                <a:avLst>
                  <a:gd name="adj" fmla="val 14042"/>
                </a:avLst>
              </a:prstGeom>
              <a:noFill/>
              <a:ln cap="sq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324480" y="5562720"/>
                <a:ext cx="1828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400" spc="-1" strike="noStrike">
                    <a:solidFill>
                      <a:srgbClr val="ffffff"/>
                    </a:solidFill>
                    <a:latin typeface="Times New Roman"/>
                  </a:rPr>
                  <a:t>TR X 0003</a:t>
                </a:r>
                <a:r>
                  <a:rPr b="0" lang="ja-JP" sz="1400" spc="-1" strike="noStrike">
                    <a:solidFill>
                      <a:srgbClr val="ffffff"/>
                    </a:solidFill>
                    <a:latin typeface="Times New Roman"/>
                  </a:rPr>
                  <a:t>対象範囲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8D63-82C6-464E-9E9C-62ECFB0CA0D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.8.29       XML, Java関連TR動向説明会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本</a:t>
            </a:r>
            <a:r>
              <a:rPr b="0" lang="ja-JP" sz="4400" spc="-1" strike="noStrike">
                <a:solidFill>
                  <a:srgbClr val="cbcbcb"/>
                </a:solidFill>
                <a:latin typeface="Arial"/>
              </a:rPr>
              <a:t>TR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構成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用語を次のように分類してい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基本用語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組版要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面付け／製本要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製版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電子文書記述分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文字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文書構成要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校正・編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E40E-7575-4E60-B0C7-267B588F9E7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.8.29       XML, Java関連TR動向説明会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本</a:t>
            </a:r>
            <a:r>
              <a:rPr b="0" lang="ja-JP" sz="4400" spc="-1" strike="noStrike">
                <a:solidFill>
                  <a:srgbClr val="cbcbcb"/>
                </a:solidFill>
                <a:latin typeface="Arial"/>
              </a:rPr>
              <a:t>TR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ポイント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もともと印刷（出版）関係の用語・指定には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外国語がなまって定着したもの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特定の現場で使用されていた用語が市民権を得たも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古い用語が新しい解釈を得たも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などが混在，混乱に拍車をかけてい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B84C-7F59-4802-8881-910C1FB55B4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.8.29       XML, Java関連TR動向説明会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語の用いられ方の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行間を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leading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と呼ぶ理由は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インテル，クワタとは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Ruby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　　　ル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ざぶとん，看板，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et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06640" y="373392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Rubi ……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09680" y="3505320"/>
            <a:ext cx="685800" cy="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505320"/>
            <a:ext cx="685800" cy="53316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9228-FAA5-481E-AF76-D8F27227E9A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.8.29       XML, Java関連TR動向説明会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今後の展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さらに用語の追加・整理・定義の見直し等を行った上で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JIS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化を目指す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多くの方々のレビューをお願いしたい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　　　（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TR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趣旨の一つでもある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00"/>
                </a:solidFill>
                <a:latin typeface="Times New Roman"/>
              </a:rPr>
              <a:t>現バージョンは“案”の段階。正式発行までには，さらに手が入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1EEE-4AFE-4208-8555-97288A2A129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.8.29       XML, Java関連TR動向説明会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1T01:08:39Z</dcterms:created>
  <dc:creator>ＤＥＬ</dc:creator>
  <dc:description/>
  <dc:language>en-US</dc:language>
  <cp:lastModifiedBy>ＤＥＬ</cp:lastModifiedBy>
  <dcterms:modified xsi:type="dcterms:W3CDTF">2000-08-29T00:26:13Z</dcterms:modified>
  <cp:revision>8</cp:revision>
  <dc:subject/>
  <dc:title>TR X 0003:2000 フォント情報処理用語</dc:title>
</cp:coreProperties>
</file>