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30E-105A-4FCB-80BD-F57A936A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600-A596-485D-9F9D-C16C1A24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047-0E32-41D2-87C0-AA927E09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AF8-6507-4180-9A59-6B5836C3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4E8-41FF-4AFD-8CCA-B78BD72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FAF-424F-4C11-A6D9-2E5009EE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14B-C764-4E61-845A-A2E2883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D60-442D-4A9B-9361-1C96A6A2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A91-3CCB-4E45-9CBD-E6B606C5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DF8-2879-4BE9-A550-DA56193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329-102D-4962-BE40-2AD580C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81C-20DB-422A-BB3C-EB2F5109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743200"/>
          </a:xfrm>
          <a:prstGeom prst="rect">
            <a:avLst/>
          </a:prstGeom>
          <a:gradFill rotWithShape="0">
            <a:gsLst>
              <a:gs pos="0">
                <a:srgbClr val="ff7f7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182-C386-4CE6-8F61-FB77854950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X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関連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動向説明会</a:t>
            </a:r>
            <a:br>
              <a:rPr sz="3600"/>
            </a:br>
            <a:br>
              <a:rPr sz="3600"/>
            </a:b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 in 10 Minut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国際大学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LO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上村圭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83D-9253-4929-9B6E-2DAAA59633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930320" y="6095880"/>
            <a:ext cx="589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参考 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http://www.yomiuri.co.jp/stream/newsliv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eal-screen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495680" cy="43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3788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映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124080"/>
            <a:ext cx="2590920" cy="0"/>
          </a:xfrm>
          <a:prstGeom prst="line">
            <a:avLst/>
          </a:prstGeom>
          <a:ln w="76320">
            <a:solidFill>
              <a:srgbClr val="7f7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362320"/>
            <a:ext cx="1523880" cy="228600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286000"/>
              <a:gd name="textAreaBottom" fmla="*/ 2211840 h 2286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800600"/>
            <a:ext cx="1752480" cy="0"/>
          </a:xfrm>
          <a:prstGeom prst="line">
            <a:avLst/>
          </a:prstGeom>
          <a:ln w="76320">
            <a:solidFill>
              <a:srgbClr val="7f7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8480" y="4343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476760" y="3657600"/>
            <a:ext cx="1981080" cy="0"/>
          </a:xfrm>
          <a:prstGeom prst="line">
            <a:avLst/>
          </a:prstGeom>
          <a:ln w="76320">
            <a:solidFill>
              <a:srgbClr val="7f7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120" y="28195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＆リン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62360" y="5257800"/>
            <a:ext cx="2895480" cy="0"/>
          </a:xfrm>
          <a:prstGeom prst="line">
            <a:avLst/>
          </a:prstGeom>
          <a:ln w="76320">
            <a:solidFill>
              <a:srgbClr val="7f7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048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静止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0320" y="5410080"/>
            <a:ext cx="546480" cy="459720"/>
          </a:xfrm>
          <a:prstGeom prst="rect">
            <a:avLst/>
          </a:prstGeom>
          <a:noFill/>
          <a:ln w="7632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82B-B8B5-4F0F-AE51-DE666221FE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タイムライ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24382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2160" y="220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映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1240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60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テキス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49528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02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静止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22096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ニュース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220968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ニュース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209680"/>
            <a:ext cx="243828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ニュース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28954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字幕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89548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字幕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895480"/>
            <a:ext cx="12189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字幕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2895480"/>
            <a:ext cx="12193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字幕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7242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広告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4724280"/>
            <a:ext cx="27432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広告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4724280"/>
            <a:ext cx="12193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広告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2670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39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音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0384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原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4038480"/>
            <a:ext cx="152388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原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4038480"/>
            <a:ext cx="243828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原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5638680"/>
            <a:ext cx="6782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410080"/>
            <a:ext cx="106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10080"/>
            <a:ext cx="57913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株式市況、為替相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600" y="541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3352680"/>
            <a:ext cx="15242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7f7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関連リン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15E-C503-45C7-B73B-DFE7D1876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のマークアップ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7f7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smi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meta name="title" content="YNS News Pack - 08/28/00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meta name="base" content="rtsp://ondemand.stream.co.jp/yomiuri/result/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meta name="author" content="YOMIURI NEWS Stream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meta name="copyright" content="(C) 2000 The Yomiuri Shimbun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layou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root-layout height="332" width="470" background-color="#005fa0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!-- 240*320 pixcels video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region id="video_large" left="0"   top="0" height="240" width="320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A19-916E-4317-B712-70EB47B684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のマークアップ（続き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7f7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seq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pa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a href="http://www.yomiuri.co.jp/stream/ad/dummy-g2.htm" show="new"&gt;&lt;img src="http://www.yomiuri.co.jp/stream/ad/pict/adg2.gif" region="banner" fill="freeze"/&gt;&lt;/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textstream src="http://www.yomiuri.co.jp/stream/smil/menu.rt" region="menu" dur="1s" fill="freez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textstream src="http://www.yomiuri.co.jp/stream/smil/tic.rt" region="ticker" dur="1s" fill="freez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textstream src="http://www.yomiuri.co.jp/stream/smil/bg-tic.rt" region="bg-tic" dur="1s" fill="freez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854-8461-4173-8B7D-B0F61707D7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のマークアップ（さらに続き）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7f7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seq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pa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img src="http://www.yomiuri.co.jp/stream/images/top.jpg" region="video_large" dur="1s" fill="freeze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seq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audio src="top/top.rm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audio src="top/guide.rm"/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/seq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/seq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&lt;/smi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1DF-0797-47A5-BE00-63118CE6C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</a:t>
            </a: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を実装したソフトウェア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Apple, QuickTime Player 4.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mpaq, HP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elio, Barbiz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icrosoft Player Internet Explorer 5.5 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NIST, S2M2 Play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Oratrix, Gr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roductivity Works, Lp play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ealNetworks, Realplayer 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F54-BDA5-4C60-8D10-39D0DC5D3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ahoma"/>
              </a:rPr>
              <a:t>SMIL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yncronized Multimedia Integration Languag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テキスト、動画、音声、アニメーションを統一的に記述するためのマークアップ言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3C Recommendation 15-June-1998 </a:t>
            </a:r>
            <a:br>
              <a:rPr sz="2400"/>
            </a:b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http://www.w3.org/TR/1998/REC-smil-199806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JIS/TR X 0014:1999</a:t>
            </a:r>
            <a:br>
              <a:rPr sz="2400"/>
            </a:b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http://www.y-adagio.com/public/standards/tr_smil/toc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新しいバージョンの開発が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3C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YMM-W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ynchronized Multimedia Working Group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）で現在行なわれてい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0EC-D175-4A9C-8B50-CBD550A54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8T09:44:59Z</dcterms:created>
  <dc:creator>かみむらけいすけ</dc:creator>
  <dc:description/>
  <dc:language>en-US</dc:language>
  <cp:lastModifiedBy>Komachi</cp:lastModifiedBy>
  <dcterms:modified xsi:type="dcterms:W3CDTF">2000-08-29T03:35:15Z</dcterms:modified>
  <cp:revision>2</cp:revision>
  <dc:subject/>
  <dc:title>SMIL in 10 Minutes</dc:title>
</cp:coreProperties>
</file>