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48488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480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26640" y="-6480"/>
            <a:ext cx="29653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52800" y="-6480"/>
            <a:ext cx="296568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63720" y="786960"/>
            <a:ext cx="5016240" cy="376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7920" y="4792320"/>
            <a:ext cx="5129280" cy="4484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26640" y="9593280"/>
            <a:ext cx="29653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52800" y="9593280"/>
            <a:ext cx="296568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90CCFA8-EA20-47C6-B1BD-690758F168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63720" y="787320"/>
            <a:ext cx="5016240" cy="37623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7920" y="4792320"/>
            <a:ext cx="5129280" cy="4484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５Ｗ１Ｈとは次のことを意味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いつ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ho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誰が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どこで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場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なぜ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どのように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方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どうした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内容・対象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8682-5FA0-4B2A-8829-779C4F50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931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4480-D9FC-4826-98A1-C5EFE1CC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128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128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D8F-21C5-41C7-BB33-26226478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04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156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04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156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BBA-1265-4C26-B555-79CF4D54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B782-ACD1-4DA9-B61A-E3A3AF2F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6E91-1D51-485F-92D5-11AB28CD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A817-96C3-4385-A3F6-1264A10C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128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A093-8714-43CE-A070-F08D2D90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FC27-1A3E-4232-B84E-920A77FE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61E1-E2D6-4EB8-A231-C04D9A49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128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0354-5925-4C55-83AD-AB80D814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0BB8-6ED7-4C34-8D7A-BF07F086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128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128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66C8-FC5C-48C2-A099-6E5AEBD5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128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931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0B36-11D9-41DA-BA82-8E26B69B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3931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DD36-2DF3-4CB4-9967-92D02F0D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128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128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932D-1F15-455B-9CE2-E0BF1B94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604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156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604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156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24CE-FBC2-46D3-85CA-4A95FFB9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283-8EAA-407D-A739-377F62B4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128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F19-C2F4-4958-91A2-5F60FFFC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0B16-72E7-4BD9-BCF7-C5D07A28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AC2-1D32-4721-A078-9695A7BE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128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D43-ABD2-422B-AFAF-5C667E31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128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128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31FD-C307-4402-A3B9-43CA1887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128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31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C76-8348-4BD6-BA3F-BA7E93E6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13C7-61E5-40C9-9240-F29AF4D7E7B5}" type="datetime">
              <a:rPr b="0" lang="en-US" sz="1400" spc="-1" strike="noStrike">
                <a:solidFill>
                  <a:srgbClr val="5e574e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54C3-C88A-4CFE-B6AF-AA6320415863}" type="slidenum">
              <a:rPr b="0" lang="en-US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F21C-8160-412A-B17A-BC2502E3E9CF}" type="datetime">
              <a:rPr b="0" lang="en-US" sz="1600" spc="-1" strike="noStrike">
                <a:solidFill>
                  <a:srgbClr val="5e574e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32C0-862E-43C7-901C-DD15F7461F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文書オブジェクトモデル（ＤＯＭ）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水準１規定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3885840"/>
            <a:ext cx="746784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</a:rPr>
              <a:t>大阪工業大学　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</a:rPr>
              <a:t>情報科学部　情報システム科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</a:rPr>
              <a:t>内藤広志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A479-A2CD-4673-887D-36E8644A66F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DOM1 </a:t>
            </a: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実装系の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OM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実装系には独自の機能拡張が許されてい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実装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XML parser for Java (XML4J)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JAVA API for XML Parsing (JAXP)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SU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Xerces Java Parse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，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Apache XML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他の言語による実装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, C++, Visual Basi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：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Microsoft X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パーサー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Msxml.dll)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Microsoft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：　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XML parser for C++ (XML4C)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er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：　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XML4P Perl DOM (XML4P)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Apach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yth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：　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yXM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ython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OM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以外の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処理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Simple API for XML (SAX) --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ベント駆動型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DF9C-74B4-41A1-A34B-E1C7D53849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DOM</a:t>
            </a: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拡張</a:t>
            </a: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API </a:t>
            </a: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をもつ </a:t>
            </a: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W3C </a:t>
            </a: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規定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Mathematical Markup Language 2.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3C Working Draft 28 March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8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章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ocument Object Model for MathM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Appendix E: Document Object Model for MathML (Non-normat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calable Vector Graphics 1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3C Candidate Recommendation 2 August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Appendix B: SVG's Document Object Model (DO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ynchronized Multimedia Integration Language Document Object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3C Working Draft 25 February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9FE-35AB-4990-B530-089E5A4698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将来動向　</a:t>
            </a: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DOM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ocument Object Model (DOM) Level 2 Specification Version 1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3C Candidate Recommendation 10 May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主な追加機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ビュー：　文書とそれを表示するビューとを関連付ける機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SS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：　スタイルシート記述言語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CS2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ルールを表現し，その属性を参照・修正し，文書の表示法を制御する機能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ベント：イベント処理の枠組みを定義し，イベントを処理するための機能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トラバーサル：　より高度な，文書構造のナビゲーション機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範囲：　文書コンテントの任意の範囲を表す機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77A-57F1-40D4-84FB-58BA37E898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将来動向　</a:t>
            </a: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DOM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ocument Object Model (DOM)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3C Working Draft 12 April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D0E-2BAE-4D77-868E-8924B5039A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ＤＯＭ水準１規定の概要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原規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ocument Object Model (DOM) Level 1 Specification Version 1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W3C Recommendation 1 October, 199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目的及び特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文書及び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文書を処理するためのアプリケーションプログラミングインタフェース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API)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を規定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言語やプラットフォームに依存しないオブジェクト指向の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O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実装処理系を用いて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文書及び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文書用プログラムを作成することによって，プログラムの移植性が高ま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3E88-32CB-430B-ABFF-0955DD58DE3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規定文書の構成 </a:t>
            </a: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0.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適応範囲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文書オブジェクトモデ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文書オブジェクトモデル水準１ コ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.1. DOM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コアインタフェースの概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.2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基礎インタフェー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.3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拡張インタフェー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文書オブジェクトモデル水準１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2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はじめに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2.2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コア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OM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応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2.3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各種のオブジェクト定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2.4 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文書に関連するオブジェク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2.5 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要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7A87-2F66-4725-BC25-E0E623C760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規定文書の構成 </a:t>
            </a: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附属書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A 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貢献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附属書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B 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用語の定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附属書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C  ID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定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.1.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文書オブジェクトモデル水準１ コ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.2.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文書オブジェクトモデル水準１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附属書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  Java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言語結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.1.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文書オブジェクトモデル水準１ コ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.2.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文書オブジェクトモデル水準１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附属書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  ECMAScri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言語結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附属書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引用規定，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索引，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編集上の備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B0DB-5EA5-4043-B2A2-1AB210259E4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文書オブジェクトモデル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OM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がモデル化する文書の構造は，木によく似た論理構造とする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DOM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構造モデ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。但し，実装では木構造として実現する必要はない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5743800" cy="319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04D-B666-40CB-80F1-86247FC6EE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DOM API</a:t>
            </a: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の定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CORBA 2.2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OMG IDL (Interface Definition Language)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よってオブジェクトのインタフェースを定義する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Ada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Lisp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malltalk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Cobo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へのマッピング規定がある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ython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は検討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例：　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要素を表す　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leme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インタフェー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interface Element : Nod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readonly attribute DOMString tagName;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属性の定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OMString getAttribute(in DOMString name);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ソッドの定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void           setAttribute(in DOMString name, in DOMString value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raises(DOMExcepti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1C4-58A1-42D9-9364-C4DE8A46488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ＤＯＭ１ コアの機能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ナビゲーション機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文書の構造（親子関係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及び兄弟関係）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を辿り，任意のオブジェクトをアクセス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文書構造の操作機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要素・属性・実体などを生成・削除・複製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子要素の挿入・削除など文書構造を変更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コンテントの操作機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テキスト・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DATA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セクションなどを生成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コンテントを要素や属性などに登録したり，削除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ユーティリティ機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NodeList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NamedNode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FCBC-1F1B-4488-B127-12F9B23C90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ＤＯＭ１ </a:t>
            </a: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HTM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4.0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で定義される要素に依存する機能を定義す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OM1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コアの要素を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文書処理用に特殊化したも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HTMLDocument (Document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を特殊化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title 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文書タイトル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URL 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文書の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URL)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okie 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関連するクッキー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HTMLElement (Element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を特殊化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id 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要素の識別子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lang 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言語コード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lassName (clas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属性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4.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要素に対応するも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HTMLHtmlElement (Html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要素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HTMLBodyElement (Body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要素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文書処理でよく行われる操作を容易にするも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HTMLDocument#images --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書中のすべてのイメー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HTMLTableElement#createTHead() --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表のヘッダを作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990-9E9E-4751-8F05-05DD3B5C61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DOM</a:t>
            </a:r>
            <a:r>
              <a:rPr b="0" lang="ja-JP" sz="4000" spc="-1" strike="noStrike">
                <a:solidFill>
                  <a:srgbClr val="000000"/>
                </a:solidFill>
                <a:latin typeface="Arial Black"/>
              </a:rPr>
              <a:t>１で定義された言語結合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Java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言語束縛の例 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-- Java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構文で定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public interface Element extends Nod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public String             getTagN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public String             getAttribute(String 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CMAscri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言語束縛の例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--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自然言語で定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Object Ele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The Element object has the following propertie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tagNam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This property is of type String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The Element object has the following method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etAttribute(name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This method returns a DOMString. The name parameter is of type DOMString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2FA4-9DA0-456C-A3BE-C94139B0BF5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07:17Z</dcterms:created>
  <dc:creator>マイクロソフト株式会社</dc:creator>
  <dc:description/>
  <dc:language>en-US</dc:language>
  <cp:lastModifiedBy>内藤広志</cp:lastModifiedBy>
  <cp:lastPrinted>2000-08-25T03:05:37Z</cp:lastPrinted>
  <dcterms:modified xsi:type="dcterms:W3CDTF">2000-08-27T08:04:40Z</dcterms:modified>
  <cp:revision>426</cp:revision>
  <dc:subject/>
  <dc:title>ｸﾘｴｲﾃｨﾌﾞ ｾｯｼｮ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info.oit.ac.jp/~naitoh/</vt:lpwstr>
  </property>
  <property fmtid="{D5CDD505-2E9C-101B-9397-08002B2CF9AE}" pid="9" name="LinkColor">
    <vt:r8>16711782</vt:r8>
  </property>
  <property fmtid="{D5CDD505-2E9C-101B-9397-08002B2CF9AE}" pid="10" name="MailAddress">
    <vt:lpwstr>naitoh@is.oit.ac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D:\kitts\progenv\2000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