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907588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D5CE7-4FA4-406D-8F62-BDF247E554C3}" type="datetime">
              <a:rPr b="0" lang="zh-CN" sz="13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779400" y="767880"/>
            <a:ext cx="554040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51C28-0D66-4C50-B516-649A4953B6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3BF24-3E9F-4833-BCAA-6C755945F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日期占位符 4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0259A-C6A1-490D-BE19-62E19D7F07CE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页脚占位符 5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C7C9A-D2AD-4582-A3B4-93329DDE45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日期占位符 4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651DD-FF34-4B0B-A41C-EC72D000BD1F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页脚占位符 5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B05D5-E798-470B-9414-FEC3303249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日期占位符 4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D307-C27E-477D-99F5-0B3F2EA7B6A7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页脚占位符 5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91A4-7E6C-4D6F-B58E-85F185388B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日期占位符 4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1D3A6-7D55-425A-B775-DBA2C779FD20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页脚占位符 5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2630-CFB9-4813-9AB7-E398ED98E9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4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4077-7E7B-4E5E-8B51-57C112D0EC71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页脚占位符 5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779400" y="768240"/>
            <a:ext cx="5540400" cy="3837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24AC3-F5AC-4EA3-93D8-4B507E4E9C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日期占位符 4"/>
          <p:cNvSpPr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0531-65D8-45A7-B760-B0D8B86AB9EF}" type="datetime">
              <a:rPr b="0" lang="zh-CN" sz="13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页脚占位符 5"/>
          <p:cNvSpPr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88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56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316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1780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852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316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1780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DCF8E-510C-41F8-BC83-F41FBA69BE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488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FBD0-7342-4270-9D02-225947B785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C948-1D98-422D-AC89-A3D93E4017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CFCB7-D0DA-4202-B031-16654E0E6A1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ABFA-BBB2-4D88-B9C1-13CE84585B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488520" y="260280"/>
            <a:ext cx="89154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C360A-40DC-4BA8-AA79-1C38219DF2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8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DB0BF-87D7-4A29-8397-570F91544DB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88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56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C9C53-AA63-4129-BB10-EF15C678BD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8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3950B-0B35-4C77-A0A5-D6E234C6A1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5242A-5097-4051-9C11-D1D33B42BC4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88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56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FBDA7-076A-4E84-96AF-A4B81E9812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0316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17800" y="162864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8852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0316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17800" y="399276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BB09-2C2D-4B45-A9B7-8615FBAF07C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88520" y="260280"/>
            <a:ext cx="89154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885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56920" y="399276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85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56920" y="162864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520" y="399276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88520" y="24919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992160" y="5157720"/>
            <a:ext cx="784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Text Box 21"/>
          <p:cNvSpPr/>
          <p:nvPr/>
        </p:nvSpPr>
        <p:spPr>
          <a:xfrm>
            <a:off x="0" y="6165720"/>
            <a:ext cx="9906120" cy="692280"/>
          </a:xfrm>
          <a:prstGeom prst="rect">
            <a:avLst/>
          </a:prstGeom>
          <a:solidFill>
            <a:srgbClr val="8585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National Engineering Laboratory for Audio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2864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ffff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ffff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Rectangle 5"/>
          <p:cNvSpPr/>
          <p:nvPr/>
        </p:nvSpPr>
        <p:spPr>
          <a:xfrm>
            <a:off x="-2301840" y="620640"/>
            <a:ext cx="2301840" cy="55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840" rIns="87840" tIns="43920" bIns="4392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英文目录标题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32-38p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颜色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 R153 G0 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用字体 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 A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文目录标题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32-38p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颜色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 R153 G0 B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字体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黑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英文目录正文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32-38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子目录 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2-5</a:t>
            </a: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级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 :20-30p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颜色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黑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使用字体 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 A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中文目录正文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32-38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子目录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2-5</a:t>
            </a: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级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:20-30p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颜色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黑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字体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:</a:t>
            </a:r>
            <a:r>
              <a:rPr b="0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黑体</a:t>
            </a:r>
            <a:r>
              <a:rPr b="1" lang="zh-CN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125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9906120" y="2781360"/>
            <a:ext cx="120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配色建议方案：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楷体_GB2312"/>
              </a:rPr>
              <a:t>建议同一页面内不超过三种颜色，以下是可供选择使用的颜色方案。（仅供参考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7"/>
          <p:cNvGrpSpPr/>
          <p:nvPr/>
        </p:nvGrpSpPr>
        <p:grpSpPr>
          <a:xfrm>
            <a:off x="9906120" y="4486320"/>
            <a:ext cx="1091880" cy="766800"/>
            <a:chOff x="9906120" y="4486320"/>
            <a:chExt cx="1091880" cy="766800"/>
          </a:xfrm>
        </p:grpSpPr>
        <p:sp>
          <p:nvSpPr>
            <p:cNvPr id="44" name="Rectangle 8"/>
            <p:cNvSpPr/>
            <p:nvPr/>
          </p:nvSpPr>
          <p:spPr>
            <a:xfrm>
              <a:off x="9906120" y="4710240"/>
              <a:ext cx="1091880" cy="36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9"/>
            <p:cNvSpPr/>
            <p:nvPr/>
          </p:nvSpPr>
          <p:spPr>
            <a:xfrm flipV="1">
              <a:off x="9983160" y="4773600"/>
              <a:ext cx="226800" cy="193680"/>
            </a:xfrm>
            <a:prstGeom prst="rect">
              <a:avLst/>
            </a:prstGeom>
            <a:solidFill>
              <a:srgbClr val="ffff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10"/>
            <p:cNvSpPr/>
            <p:nvPr/>
          </p:nvSpPr>
          <p:spPr>
            <a:xfrm flipV="1">
              <a:off x="10305000" y="4486320"/>
              <a:ext cx="225000" cy="193680"/>
            </a:xfrm>
            <a:prstGeom prst="rect">
              <a:avLst/>
            </a:prstGeom>
            <a:solidFill>
              <a:srgbClr val="f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11"/>
            <p:cNvSpPr/>
            <p:nvPr/>
          </p:nvSpPr>
          <p:spPr>
            <a:xfrm flipV="1">
              <a:off x="10662840" y="4486320"/>
              <a:ext cx="226800" cy="193680"/>
            </a:xfrm>
            <a:prstGeom prst="rect">
              <a:avLst/>
            </a:prstGeom>
            <a:solidFill>
              <a:srgbClr val="d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12"/>
            <p:cNvSpPr/>
            <p:nvPr/>
          </p:nvSpPr>
          <p:spPr>
            <a:xfrm flipV="1">
              <a:off x="9983160" y="4486320"/>
              <a:ext cx="226800" cy="193680"/>
            </a:xfrm>
            <a:prstGeom prst="rect">
              <a:avLst/>
            </a:prstGeom>
            <a:solidFill>
              <a:srgbClr val="ffdc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3"/>
            <p:cNvSpPr/>
            <p:nvPr/>
          </p:nvSpPr>
          <p:spPr>
            <a:xfrm flipV="1">
              <a:off x="10296360" y="4773600"/>
              <a:ext cx="226800" cy="192240"/>
            </a:xfrm>
            <a:prstGeom prst="rect">
              <a:avLst/>
            </a:prstGeom>
            <a:solidFill>
              <a:srgbClr val="e6f59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4"/>
            <p:cNvSpPr/>
            <p:nvPr/>
          </p:nvSpPr>
          <p:spPr>
            <a:xfrm flipV="1">
              <a:off x="10684800" y="4773600"/>
              <a:ext cx="225360" cy="192240"/>
            </a:xfrm>
            <a:prstGeom prst="rect">
              <a:avLst/>
            </a:prstGeom>
            <a:solidFill>
              <a:srgbClr val="73b4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15"/>
            <p:cNvSpPr/>
            <p:nvPr/>
          </p:nvSpPr>
          <p:spPr>
            <a:xfrm flipV="1">
              <a:off x="10296360" y="5060880"/>
              <a:ext cx="226800" cy="192240"/>
            </a:xfrm>
            <a:prstGeom prst="rect">
              <a:avLst/>
            </a:prstGeom>
            <a:solidFill>
              <a:srgbClr val="5ac1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6"/>
            <p:cNvSpPr/>
            <p:nvPr/>
          </p:nvSpPr>
          <p:spPr>
            <a:xfrm flipV="1">
              <a:off x="9983160" y="5060880"/>
              <a:ext cx="226800" cy="192240"/>
            </a:xfrm>
            <a:prstGeom prst="rect">
              <a:avLst/>
            </a:prstGeom>
            <a:solidFill>
              <a:srgbClr val="ccec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17"/>
            <p:cNvSpPr/>
            <p:nvPr/>
          </p:nvSpPr>
          <p:spPr>
            <a:xfrm flipV="1">
              <a:off x="10684800" y="5060880"/>
              <a:ext cx="226800" cy="192240"/>
            </a:xfrm>
            <a:prstGeom prst="rect">
              <a:avLst/>
            </a:prstGeom>
            <a:solidFill>
              <a:srgbClr val="003c5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Line 18"/>
          <p:cNvSpPr/>
          <p:nvPr/>
        </p:nvSpPr>
        <p:spPr>
          <a:xfrm>
            <a:off x="200160" y="1197000"/>
            <a:ext cx="95058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0"/>
          <p:cNvSpPr/>
          <p:nvPr/>
        </p:nvSpPr>
        <p:spPr>
          <a:xfrm>
            <a:off x="992160" y="5157720"/>
            <a:ext cx="784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1"/>
          </p:nvPr>
        </p:nvSpPr>
        <p:spPr>
          <a:xfrm>
            <a:off x="7257600" y="623700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10C37-235C-456D-8542-43329ED3851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5"/>
          <p:cNvSpPr/>
          <p:nvPr/>
        </p:nvSpPr>
        <p:spPr>
          <a:xfrm>
            <a:off x="992160" y="1341360"/>
            <a:ext cx="806436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n implementing gu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to DRA audio dec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n a DTMB rece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560520" y="4508640"/>
            <a:ext cx="892944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75"/>
              </a:spcBef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黑体"/>
              </a:rPr>
              <a:t>Digital Rise Co.,Ltd, Guangdong, Chin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(National Engineering Laboratory for Audio Techn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黑体"/>
              </a:rPr>
              <a:t>2011.10.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201D7-C8B5-4DD6-A342-5739A241371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DRA – Chinese audio decoding standard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5" descr="DRA spec"/>
          <p:cNvPicPr/>
          <p:nvPr/>
        </p:nvPicPr>
        <p:blipFill>
          <a:blip r:embed="rId1"/>
          <a:stretch/>
        </p:blipFill>
        <p:spPr>
          <a:xfrm>
            <a:off x="415800" y="1268280"/>
            <a:ext cx="3633840" cy="475308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4"/>
          <p:cNvSpPr/>
          <p:nvPr/>
        </p:nvSpPr>
        <p:spPr>
          <a:xfrm>
            <a:off x="4160880" y="1268280"/>
            <a:ext cx="57452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18432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  <a:ea typeface="宋体"/>
              </a:rPr>
              <a:t>DRA (Digital Rise Audio)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843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Name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：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《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Specification for Multichannel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Digital Audio Coding Technology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3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Number 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：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GB/T 22726-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3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Issued date</a:t>
            </a:r>
            <a:r>
              <a:rPr b="0" lang="zh-CN" sz="2400" spc="-1" strike="noStrike">
                <a:solidFill>
                  <a:srgbClr val="ffffff"/>
                </a:solidFill>
                <a:latin typeface="Calibri"/>
                <a:ea typeface="宋体"/>
              </a:rPr>
              <a:t>：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Dec 22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3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Used in the fields of: Blu-ray Disc, DTMB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32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CMMB, and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84320">
              <a:lnSpc>
                <a:spcPct val="12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  <a:ea typeface="宋体"/>
              </a:rPr>
              <a:t>Published in Chin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A8E4-0D46-43C2-85E7-D6E32C9EF7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ffff"/>
                </a:solidFill>
                <a:latin typeface="Arial"/>
              </a:rPr>
              <a:t>Other DRA–related international standards</a:t>
            </a:r>
            <a:endParaRPr b="0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72880" y="1268280"/>
            <a:ext cx="936000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41440" indent="-274680">
              <a:lnSpc>
                <a:spcPct val="12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Arial"/>
                <a:ea typeface="宋体"/>
              </a:rPr>
              <a:t>IEC 61937-12  2010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  Digital audio - Interface for non-linear PCM encoded audio bitstreams applying IEC 60958 - Part 12: Non-linear PCM bitstreams according to the DRA formats, b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  <a:ea typeface="黑体"/>
              </a:rPr>
              <a:t>TC100/TA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746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CEA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and HDMI  2010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  CEA 861.1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  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Audio Format Extension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746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IETF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2009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“RTP Payload Format for DRA Audi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746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IANA 2009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 “MIME media type name &amp; MIME subtype name for DR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746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SMPTE 2008</a:t>
            </a: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宋体"/>
              </a:rPr>
              <a:t>：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“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DRA Elementary Streams in the MPEG-2 Multiplex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746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  <a:ea typeface="宋体"/>
              </a:rPr>
              <a:t>MP4 2008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： “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MP4 File Format for DRA Audio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7468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DRA is an optional audio decoding technology in BD-ROM 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5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Included in “System Description Blue-ray Disc Read-Only Format, Part3: Audio Visual Basic Specifications V2.3” (March, 200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274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680" indent="-4680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4880" y="5516640"/>
            <a:ext cx="8785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589720"/>
            <a:ext cx="9906120" cy="520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guide to DRA decoder implementation in above stand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30E8C-DBC6-4026-8EB7-B9A38A5F37C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DRA in a DTMB receiver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93680" y="1357200"/>
            <a:ext cx="943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A is 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ff00"/>
                </a:solidFill>
                <a:latin typeface="Arial"/>
              </a:rPr>
              <a:t>mandato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udio decoder in DTMB receiver stand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4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t is described in section 5.5.2.1.1 of DTMB receiver standard in Chine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official English version to define how to decode DRA data in a DTMB rece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A guide for implementing DRA decoder in a DTMB receiver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firstly be standardized by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IEC TC100/TA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s IEC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/1855/NP “Digital Terrestrial Television Receivers for the DTMB system” 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art 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DF884-F17E-455F-81DA-02C7AC21879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93320" y="1600200"/>
            <a:ext cx="971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 in a 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echnical details of the N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D51E6-4133-454D-B09A-77E02DB946F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ffffff"/>
                </a:solidFill>
                <a:latin typeface="Arial"/>
              </a:rPr>
              <a:t>IEC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100/1855/NP --- par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3680" y="1357200"/>
            <a:ext cx="943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tle: A guide for implementing DRA decoder in a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a DRA deco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cribe the syntax structure of DRA data strea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he implementation steps of DRA decoding modul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mitations for DRA decoder in DTMB recei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BD520-2EDE-4D2E-8D16-D212C5F77A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decoder"/>
          <p:cNvPicPr/>
          <p:nvPr/>
        </p:nvPicPr>
        <p:blipFill>
          <a:blip r:embed="rId1"/>
          <a:stretch/>
        </p:blipFill>
        <p:spPr>
          <a:xfrm>
            <a:off x="2432160" y="1341360"/>
            <a:ext cx="4605120" cy="48243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55200" y="534960"/>
            <a:ext cx="756612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 Decoder (1) overview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0" y="890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2D4DB-52B2-4A6D-B8A5-16F865054F5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55200" y="534960"/>
            <a:ext cx="756612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 Decoder (2) frame structur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"/>
          <p:cNvSpPr/>
          <p:nvPr/>
        </p:nvSpPr>
        <p:spPr>
          <a:xfrm>
            <a:off x="0" y="890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992160" y="1268280"/>
          <a:ext cx="7921800" cy="475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268280"/>
                    <a:ext cx="7921800" cy="47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92CEB-EA1C-4D10-9299-001BF59F1C2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55200" y="534960"/>
            <a:ext cx="756612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 Decoder (2-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"/>
          <p:cNvSpPr/>
          <p:nvPr/>
        </p:nvSpPr>
        <p:spPr>
          <a:xfrm>
            <a:off x="0" y="890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344520" y="1484280"/>
          <a:ext cx="9288360" cy="4392720"/>
        </p:xfrm>
        <a:graphic>
          <a:graphicData uri="http://schemas.openxmlformats.org/drawingml/2006/table">
            <a:tbl>
              <a:tblPr/>
              <a:tblGrid>
                <a:gridCol w="3040200"/>
                <a:gridCol w="6248160"/>
              </a:tblGrid>
              <a:tr h="4716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coder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184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multiplex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code each code from bit stream packet. Because the Huffman code is the prefix code, the decoding and demultiplexing are processed on the same step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364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de Book Sele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code each Huffman code book and its application range from bit stream for decoding quantization ind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47484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Quantization Index Deco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code quantization index from bit stream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586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The Number of quantization unit Reco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construct the number of quantization units for each transient cluster according to code book application rang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622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quantiz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code quantization step sizes of all the quantization units from bit stream, and reconstruct the subband samples according to quantization index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719C1-85D6-4558-BA65-4EDD9BD94918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55200" y="534960"/>
            <a:ext cx="7566120" cy="50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 Decoder (2-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5"/>
          <p:cNvSpPr/>
          <p:nvPr/>
        </p:nvSpPr>
        <p:spPr>
          <a:xfrm>
            <a:off x="0" y="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0" y="89064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15800" y="1484280"/>
          <a:ext cx="9145800" cy="4460760"/>
        </p:xfrm>
        <a:graphic>
          <a:graphicData uri="http://schemas.openxmlformats.org/drawingml/2006/table">
            <a:tbl>
              <a:tblPr/>
              <a:tblGrid>
                <a:gridCol w="3249720"/>
                <a:gridCol w="5896080"/>
              </a:tblGrid>
              <a:tr h="46368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coder Compon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un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586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ptional Joint Intensity Deco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construct the subband samples of joint channel from the subband samples in source channel by using joint intensity scale factor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780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Optional Sum/Difference Decod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construct the subband samples of left/right channel from the subband samples in sum/difference channel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58428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-interleav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-interleaving is carried out, when there is transient in the fram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5896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hort/Brief windows function sequence  Reconstruc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construct the short/brief window function sequence for the transient frame by the transient location and the MDCT perfect reconstruction condition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847440"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Variable Resolution Synthesis Filter Ban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68760" rIns="68760" tIns="17640" bIns="1764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construct the PCM audio samples from subband samples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1067-79E3-4FB5-9361-CB30649CE0A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72880" y="1484280"/>
            <a:ext cx="9001440" cy="4392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906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RA Limitations for DTMB recei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72880" y="1843200"/>
          <a:ext cx="8856720" cy="1514520"/>
        </p:xfrm>
        <a:graphic>
          <a:graphicData uri="http://schemas.openxmlformats.org/drawingml/2006/table">
            <a:tbl>
              <a:tblPr/>
              <a:tblGrid>
                <a:gridCol w="2752920"/>
                <a:gridCol w="6103800"/>
              </a:tblGrid>
              <a:tr h="36504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ing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~192k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~9612kp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ing precis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nel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4.3 —— normal channels: 64, low frequency channels (LFE):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Rectangle 23"/>
          <p:cNvSpPr/>
          <p:nvPr/>
        </p:nvSpPr>
        <p:spPr>
          <a:xfrm>
            <a:off x="2299680" y="1468080"/>
            <a:ext cx="47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riginal Specs of DRA audio coding 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3"/>
          <p:cNvSpPr/>
          <p:nvPr/>
        </p:nvSpPr>
        <p:spPr>
          <a:xfrm>
            <a:off x="3518280" y="3860280"/>
            <a:ext cx="22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mited Specs of D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306360" y="4213080"/>
          <a:ext cx="8858160" cy="1409760"/>
        </p:xfrm>
        <a:graphic>
          <a:graphicData uri="http://schemas.openxmlformats.org/drawingml/2006/table">
            <a:tbl>
              <a:tblPr/>
              <a:tblGrid>
                <a:gridCol w="2701800"/>
                <a:gridCol w="6156360"/>
              </a:tblGrid>
              <a:tr h="33732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ing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hall support </a:t>
                      </a: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8 kHz, 44.1 kHz, and 32 kHz, others are option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it r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≥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kp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mpling precision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840"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annel number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9000" rIns="99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Stereo, 5.1 surround and mor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9000" marR="99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0F13-D393-433F-A2A3-725279CABE1A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93320" y="1600200"/>
            <a:ext cx="971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 in a 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details of the N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3D803-4C60-40CB-8008-9CB4FAC534F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193320" y="1600200"/>
            <a:ext cx="971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 in a 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details of the N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3C916-A711-4566-B3E0-BD7B19900EE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ime pla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50"/>
          <p:cNvSpPr/>
          <p:nvPr/>
        </p:nvSpPr>
        <p:spPr>
          <a:xfrm>
            <a:off x="701640" y="770940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2"/>
          <p:cNvSpPr/>
          <p:nvPr/>
        </p:nvSpPr>
        <p:spPr>
          <a:xfrm>
            <a:off x="631800" y="1989000"/>
            <a:ext cx="8736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N-NC evaluate the NP                           befor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P document                                              Mar.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e of Circulation (NP)                              Apr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accep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st CD                                                 Oct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                                                        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53"/>
          <p:cNvSpPr/>
          <p:nvPr/>
        </p:nvSpPr>
        <p:spPr>
          <a:xfrm>
            <a:off x="4232160" y="2421000"/>
            <a:ext cx="0" cy="936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54"/>
          <p:cNvSpPr/>
          <p:nvPr/>
        </p:nvSpPr>
        <p:spPr>
          <a:xfrm>
            <a:off x="4232160" y="4292640"/>
            <a:ext cx="0" cy="936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E99E-3BC2-42C1-9989-4657A82614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93320" y="1628640"/>
            <a:ext cx="9712440" cy="37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Arial"/>
              </a:rPr>
              <a:t>Thanks</a:t>
            </a:r>
            <a:r>
              <a:rPr b="0" lang="zh-CN" sz="7200" spc="-1" strike="noStrike">
                <a:solidFill>
                  <a:srgbClr val="ffffff"/>
                </a:solidFill>
                <a:latin typeface="Arial"/>
              </a:rPr>
              <a:t>！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ELA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：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ww.nela.org.cn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3BE4-8EFC-4F12-91CC-91A1B58C70F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93320" y="1600200"/>
            <a:ext cx="971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RA in a 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details of the N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D035-B4A9-40AE-8088-8D1BE4F1A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TMB receiver standard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88880" y="1412640"/>
            <a:ext cx="91728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B/T 26686-2011 DTMB receiver standard, Ch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me: General specification for terrestrial digital television rece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d  date: 16th June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ive date: 1st November 201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EC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100/1855/NP “Digital Terrestrial Television Receivers for the DTMB system”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0441-B33F-40BA-8112-FD29A60CA8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 few main modules of a DTMB recei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73240" y="2276640"/>
            <a:ext cx="2664000" cy="2303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T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duating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nnel deco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ux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600880" y="2205000"/>
            <a:ext cx="2089080" cy="863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600880" y="3716280"/>
            <a:ext cx="2089080" cy="86364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dio  deco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04880" y="3357720"/>
            <a:ext cx="13701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37240" y="270828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37240" y="414972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89960" y="2637000"/>
            <a:ext cx="1439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89960" y="4076640"/>
            <a:ext cx="13665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EE08B-173B-4DE4-8DFF-06BD110595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Channel processing of a 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88880" y="1412640"/>
            <a:ext cx="91728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igital Terrestrial/Television Multimedia Broadcasting (DTMB) standard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4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B 20600-2006: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T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errest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transmitting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hina 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ional Stand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4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 full tile : “Framing structure, channel coding and modulation for digital television terrestrial broadcasting system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499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66760" y="3916440"/>
            <a:ext cx="2230560" cy="180504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T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oduating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hannel deco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mux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21280" y="3860640"/>
            <a:ext cx="1749240" cy="676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ideo  de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1280" y="5045040"/>
            <a:ext cx="1749240" cy="676440"/>
          </a:xfrm>
          <a:prstGeom prst="rect">
            <a:avLst/>
          </a:prstGeom>
          <a:solidFill>
            <a:srgbClr val="ffcc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dio  deco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0880" y="4764240"/>
            <a:ext cx="114768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97320" y="4254480"/>
            <a:ext cx="7239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97320" y="5384880"/>
            <a:ext cx="72396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770520" y="4199040"/>
            <a:ext cx="120672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770520" y="5327640"/>
            <a:ext cx="114480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68520" y="3500280"/>
            <a:ext cx="3240000" cy="2665440"/>
          </a:xfrm>
          <a:prstGeom prst="ellipse">
            <a:avLst/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788FB-E03D-4A51-8F95-530EB2CB7C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Video decoding of a DTMB recei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88880" y="1413000"/>
            <a:ext cx="9172800" cy="25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Video deco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O/IEC 13818-2(MPEG-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B/T 20090.2-200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(Chinese standard) AVS Video deco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pecified frame rate as 25Hz, 4:3 and 16:9 rat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992160" y="4005360"/>
            <a:ext cx="7056360" cy="2076480"/>
            <a:chOff x="992160" y="4005360"/>
            <a:chExt cx="7056360" cy="2076480"/>
          </a:xfrm>
        </p:grpSpPr>
        <p:sp>
          <p:nvSpPr>
            <p:cNvPr id="131" name=""/>
            <p:cNvSpPr/>
            <p:nvPr/>
          </p:nvSpPr>
          <p:spPr>
            <a:xfrm>
              <a:off x="2138040" y="4276800"/>
              <a:ext cx="2230560" cy="180504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TM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duating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nel deco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ux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092560" y="4221360"/>
              <a:ext cx="1749240" cy="6760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deo  deco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92560" y="5405400"/>
              <a:ext cx="1749240" cy="6764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dio  deco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92160" y="5124600"/>
              <a:ext cx="11476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68600" y="4614840"/>
              <a:ext cx="723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68600" y="5745240"/>
              <a:ext cx="72396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841800" y="4559400"/>
              <a:ext cx="12067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41800" y="5688000"/>
              <a:ext cx="114480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519440" y="4005360"/>
              <a:ext cx="2652840" cy="124128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BC8F4-7484-4A64-94B4-46168C92FE7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udio decoding of a DTMB receiv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88880" y="1412640"/>
            <a:ext cx="917280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udio deco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SO/IEC 11172-3 MPEG-1 Layer 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3300"/>
                </a:solidFill>
                <a:latin typeface="Arial"/>
              </a:rPr>
              <a:t>GB/T22726-2008, China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R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udio decodi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Aft>
                <a:spcPts val="601"/>
              </a:spcAft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TSI TS 102366 (AC3) or other digital audio stre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920880" y="3860640"/>
            <a:ext cx="7056000" cy="2087280"/>
            <a:chOff x="920880" y="3860640"/>
            <a:chExt cx="7056000" cy="2087280"/>
          </a:xfrm>
        </p:grpSpPr>
        <p:sp>
          <p:nvSpPr>
            <p:cNvPr id="143" name=""/>
            <p:cNvSpPr/>
            <p:nvPr/>
          </p:nvSpPr>
          <p:spPr>
            <a:xfrm>
              <a:off x="2066760" y="3916440"/>
              <a:ext cx="2231280" cy="180468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TM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oduating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hannel decod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mux            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021640" y="3860640"/>
              <a:ext cx="1749600" cy="67680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Video  deco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1640" y="5044680"/>
              <a:ext cx="1749600" cy="6768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dio  decod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20880" y="4763880"/>
              <a:ext cx="114732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98040" y="4254840"/>
              <a:ext cx="723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298040" y="5384520"/>
              <a:ext cx="7232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771240" y="4199040"/>
              <a:ext cx="12056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771240" y="5327280"/>
              <a:ext cx="114444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00080" y="4706640"/>
              <a:ext cx="2653560" cy="124128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2C13A-5126-4C46-B5F8-997224857DB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88520" y="260280"/>
            <a:ext cx="89154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193320" y="1600200"/>
            <a:ext cx="971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RA in a DTMB recei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details of the N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EBCAB-067B-4E72-AA6C-9BE5DD1231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04:07:39Z</dcterms:created>
  <dc:creator>pc5</dc:creator>
  <dc:description/>
  <dc:language>en-US</dc:language>
  <cp:lastModifiedBy>User</cp:lastModifiedBy>
  <dcterms:modified xsi:type="dcterms:W3CDTF">2011-09-07T04:50:08Z</dcterms:modified>
  <cp:revision>309</cp:revision>
  <dc:subject/>
  <dc:title>幻灯片 1</dc:title>
</cp:coreProperties>
</file>