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40B-BD7B-4F77-B926-4CC4D1C9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B1B-7E4E-4C43-A603-E786EA9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AB2-8A44-4D66-8043-2E459141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B4C-B2F8-46E5-A540-95E4F9E8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8AC-2345-4C24-9B4F-D6BF3BB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9FC-F1BE-4FF9-B96A-F7394A07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77E-1B57-43A7-A173-92A949E2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FAD-E048-4A8B-A8DE-7C13247A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5E9-672A-4D6B-9670-A7FAD41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B07-BF3B-4D22-A58C-DBD08082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839-27DA-4A0A-B342-46C8AF17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7A8-10DD-46E7-87A9-736B225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B73-F23B-4491-BAD1-DB49AF6E65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t-PACT activities: user requirements for future TC100 standard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. Mukai and S. Hiraka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5994360" y="78588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00/AGS(Secr.)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0-10-31, 100/AGS/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T Report 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interfaces in Multimedia network 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3-03-3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/AGS/1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 Response to the PACT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ess of the technology and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t report and response to the PACT report shows a lot of interesting possible activities for TC100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pics which are not included also came out  such as IPTV, security, 3D issues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 TC100 suggested to set up ad-hoc group to review and propose further activities related on this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6:40:21Z</dcterms:created>
  <dc:creator>Mukai, Mikio</dc:creator>
  <dc:description/>
  <dc:language>en-US</dc:language>
  <cp:lastModifiedBy>Mukai, Mikio</cp:lastModifiedBy>
  <dcterms:modified xsi:type="dcterms:W3CDTF">2009-10-17T17:03:42Z</dcterms:modified>
  <cp:revision>5</cp:revision>
  <dc:subject/>
  <dc:title>Post-PACT activities: user requirements for future TC100 standardization</dc:title>
</cp:coreProperties>
</file>