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A6B7-2E36-4FFA-B730-8C5C7BA93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F79F-8440-4343-96E6-2D5CC5D5C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C927-C51D-40FB-B549-C5C11F3CB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2498-ED7D-40AE-897D-EFEA6EE89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C308-2135-4F10-83F2-7023821DF5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B43B-715B-401C-AA4F-A6E8B05EF6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2C36-D577-4C67-B163-2E138513E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1F70-A975-4BFF-941D-6C0FD0E1C2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6776-B5ED-4DF6-A506-DD11E9B6F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6FCE-A839-4ACC-8241-A72CD4705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D7C2-7DC2-428C-9C82-93020FB79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1FC4-0802-4113-94DF-DCA511A8A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17F4-0D79-46F4-95BB-DC362E620D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  <a:ea typeface="ＭＳ Ｐゴシック"/>
              </a:rPr>
              <a:t>IEC SG1 Energy Efficiency and Renewable Resources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1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an Bar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1D6D-6445-4CDF-90DC-F3CE217C01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by IEC President that “converting the savings in electricity consumption expressed in kWh into reduced CO2 emissions would be very interesting to the General Publ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 16 from the Jun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velop a systematic approach for the design and evaluation of energy efficiency in networked systems used in homes and buildings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1055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IEC JTC1 SC25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ng ISO/IEC TR 15067-3 (model of an energy management system for home electronic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guidelines to improve energy efficiency with help of co-operation between different produc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n international standard that lists information that supports energy efficiency when conveyed from one product (group) to another product (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uch activities shall be undertaken by ISO/IEC JTC1/SC25 in close cooperation with IEC/TC23, IEC/TC34, IEC/TC 59, IECTC/100, and ISO/TC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79132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of Recommendation 1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ly, for IT equipment including consumer electronic products, standardization activities need to be stated/reinforced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imary affected IEC/TC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 100 “Audio, video and multimedia systems and equip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 108 “Safety of electronic equipment within the field of audio/video, information technology and communic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TC 1 /SC25 “Interconnection of information technology equip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5520" y="58672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G1 Recommendation 17 (Source: SMB-SG 1/0024/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 100 and TC 108 to develop/update International Standards on measurement procedures for IT equipment and consumer electronics shall be established (or revised, as appropriate), which are the basis for establishing energy consumption / energy efficiency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50440" y="58672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G1 Recommendation 18 (Source: SMB-SG 1/0024/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 100 and TC 108 to develop/update a harmonized international system of energy consumption classed including a labeling scheme to determine the energy consumption/energy efficiency of consumer electronic products, such as TV sets, set-top boxes, cable modems, DSL router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EC SMB/SG1 Energy Efficiency and Renewable Resourc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1 Recommendation 15c (Source: SMB-SG 1/0024/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 100 and TC 108 to take into account both standby losses and off-mode losses in their product standards.  This requires external power supplies (AV/DC converters) to be considered as integral parts of the pertinent appliances.  For true zero stand-by and off-mode losses, the power supply shall be completely disconnected from the power grid by appropriate m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7800" y="579132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 SMB/SG1/0024/RM,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0:26:49Z</dcterms:created>
  <dc:creator>Ed Barrett</dc:creator>
  <dc:description/>
  <dc:language>en-US</dc:language>
  <cp:lastModifiedBy> </cp:lastModifiedBy>
  <cp:lastPrinted>2000-09-15T21:11:08Z</cp:lastPrinted>
  <dcterms:modified xsi:type="dcterms:W3CDTF">2008-09-16T18:50:33Z</dcterms:modified>
  <cp:revision>307</cp:revision>
  <dc:subject/>
  <dc:title>USTSC Meeting August 20065 Master presentation</dc:title>
</cp:coreProperties>
</file>