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45AD-4166-4904-AB3C-F846746F6D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rent AV system such as DVD, BD, DTV must have a security system to protect a copyright of contents, it is very important. The technology used to protect copyright is specified by a private standard organization and enforcement is valid by contr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C/TC100 standard consider security issue as de-jure standar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vious standardization regarding copy control in TC100 are SCMS and CGMS-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importance of copy control and privacy data control, TC100 standard should consider these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5360" y="3802320"/>
            <a:ext cx="8110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5360" y="38023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1560" y="38023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840" y="12949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12949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5360" y="38023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840" y="38023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38023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AF21-39BF-48F8-B30A-3561FF88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A3572-18CA-4FD6-BD94-AB812B87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5C89B-6C0A-460B-9A53-9D44192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AFB3D-37D6-4B91-8B82-ECE47464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8CB52-A354-4706-9E54-F0D843E2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484920"/>
            <a:ext cx="81626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51C36-1FC6-4554-8870-6D6801E8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5360" y="38023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925C6-94E8-4B0E-807E-1E61E9EF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1560" y="38023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C22AB-193B-4CFA-B124-B7E11668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5360" y="3802320"/>
            <a:ext cx="8110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96481-C805-4E9C-A0C2-DDECE928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5360" y="3802320"/>
            <a:ext cx="8110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4AF6B-814C-4335-AA6C-71652009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5360" y="38023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1560" y="38023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DE879-0F64-4775-AE91-1805DC8F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7840" y="12949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0320" y="12949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85360" y="38023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7840" y="38023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0320" y="3802320"/>
            <a:ext cx="261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AB606-BE63-4292-B26B-132D50E0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84920"/>
            <a:ext cx="81626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5360" y="38023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1560" y="38023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1560" y="1294920"/>
            <a:ext cx="3957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5360" y="3802320"/>
            <a:ext cx="8110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cc99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400" y="1887480"/>
            <a:ext cx="7678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5E30-F010-4230-AF11-B479EE2EBF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cc99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fc4810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ecurity%20example%20for%20IEC%2062375.pdf" TargetMode="External"/><Relationship Id="rId2" Type="http://schemas.openxmlformats.org/officeDocument/2006/relationships/hyperlink" Target="file:///Security%20example%20for%20IEC%2060908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88760"/>
            <a:ext cx="86868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a0000"/>
                </a:solidFill>
                <a:latin typeface="Verdana"/>
              </a:rPr>
              <a:t>Report of Adhoc Group on </a:t>
            </a:r>
            <a:br>
              <a:rPr sz="3600"/>
            </a:br>
            <a:r>
              <a:rPr b="0" lang="en-US" sz="3600" spc="-1" strike="noStrike">
                <a:solidFill>
                  <a:srgbClr val="9a0000"/>
                </a:solidFill>
                <a:latin typeface="Verdana"/>
              </a:rPr>
              <a:t>IETF scheme for </a:t>
            </a:r>
            <a:br>
              <a:rPr sz="3600"/>
            </a:br>
            <a:r>
              <a:rPr b="0" lang="en-US" sz="3600" spc="-1" strike="noStrike">
                <a:solidFill>
                  <a:srgbClr val="9a0000"/>
                </a:solidFill>
                <a:latin typeface="Verdana"/>
              </a:rPr>
              <a:t>TC100 security standardization </a:t>
            </a:r>
            <a:endParaRPr b="0" lang="en-US" sz="36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021200" y="2860560"/>
            <a:ext cx="4741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J. Yoshio and R. Atarash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C100/A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17 Nov.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2286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0/AGS(Secr.)3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udy for security of AV equipment and systems was raised in AGS, then IEC 62045 was specified in 200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nd of 2006, IEC requested security study in each TA, refer to SMB/3377/DC and SMB/3378/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last AGS, AGS suggested to make a study group for including a security specification within IEC standard with reference to IETF RFC3352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TF RFC335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TF RFC3352 (Guidelines for Writing RFC Text on Security Considerations, July 2003) specifies how to describe the security for each IETF stand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guideline is dedicated to internet protocol and describes specific security iss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FC3352 can not be applied to IEC standard as it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TF examp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FC have a clause titled “Security Consideration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RFC4810, "Long-Term Archive Service Requirements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FC4904, "Representing Trunk Groups in tel/sip Uniform Resource Identifiers (URIs)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FC4998, "Evidence Record Syntax (ERS)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FC5276, "Using the Server-Based Certificate Validation Protocol (SCVP) to Convey Long-Term Evidence Records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C 62045-1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media security - Guideline for privacy protection of equipment and systems in and out of use - Part 1: 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tandard describes general model of AV equipment and systems, and the security for their data from communication path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general part not specific, also this dose not specify how to describe clause of secur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2 and other for specific AV equipment and systems were planned, but it was not do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ason may be that it is not a primary issue to make a security standard for a specific AV equipment and syst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and the future standard of AV equipment needs secur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s exampl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VD player/recorder may have a capability of internet acce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cc99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TV tuner, Firmware update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D player/recorder may have a capability of  internet acce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cc99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related applications, Managed Copy, DTV tuner, Firmware update…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me network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s related these products should consider secur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vate organization specifies copyright protection technologies and enforce with contra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CSS, AACS, HDCP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C standard should take care of security issue other tha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2819520"/>
            <a:ext cx="7162920" cy="2133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Example: DVD player</a:t>
            </a: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38080" y="3505320"/>
            <a:ext cx="1828800" cy="761760"/>
            <a:chOff x="838080" y="3505320"/>
            <a:chExt cx="1828800" cy="761760"/>
          </a:xfrm>
        </p:grpSpPr>
        <p:sp>
          <p:nvSpPr>
            <p:cNvPr id="106" name=""/>
            <p:cNvSpPr/>
            <p:nvPr/>
          </p:nvSpPr>
          <p:spPr>
            <a:xfrm>
              <a:off x="838080" y="3505320"/>
              <a:ext cx="1828800" cy="7617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0200" y="3809880"/>
              <a:ext cx="30456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581280" y="3352680"/>
            <a:ext cx="19814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88620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1600200"/>
            <a:ext cx="1828800" cy="914400"/>
          </a:xfrm>
          <a:prstGeom prst="wedgeRoundRectCallout">
            <a:avLst>
              <a:gd name="adj1" fmla="val -17013"/>
              <a:gd name="adj2" fmla="val 192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is protected with C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33526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D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88620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1600200"/>
            <a:ext cx="1828800" cy="914400"/>
          </a:xfrm>
          <a:prstGeom prst="wedgeRoundRectCallout">
            <a:avLst>
              <a:gd name="adj1" fmla="val 17189"/>
              <a:gd name="adj2" fmla="val 1862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is protected with HD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5486400"/>
            <a:ext cx="1828800" cy="914400"/>
          </a:xfrm>
          <a:prstGeom prst="wedgeRoundRectCallout">
            <a:avLst>
              <a:gd name="adj1" fmla="val 22050"/>
              <a:gd name="adj2" fmla="val -2142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is plain text, it should be prot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40384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DMI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4387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VD Di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59092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VD 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25780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 security issue that should be specified by IEC/TC100 stand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58672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al of annex description of security in IEC/TC100 stand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Annex X (normative or informati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.1 Thre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.2 Countermeasure and 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cc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.3 Spec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8492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85360" y="129492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 of existing IEC/TC100 standard including security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C 61119-6: SC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C 61880-2 and IEC 62375: CGMS-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 of proposed scheme application for the above specification and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IEC 62375 (CGMS-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EC 60908 (CD specific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04:14:13Z</dcterms:created>
  <dc:creator>junichi yoshio</dc:creator>
  <dc:description/>
  <dc:language>en-US</dc:language>
  <cp:lastModifiedBy>junichi yoshio</cp:lastModifiedBy>
  <dcterms:modified xsi:type="dcterms:W3CDTF">2008-11-16T22:17:57Z</dcterms:modified>
  <cp:revision>56</cp:revision>
  <dc:subject/>
  <dc:title>Organizing ad-hoc group to clarify the application of the IETF scheme</dc:title>
</cp:coreProperties>
</file>